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0E2-D817-4194-8E8C-02EC0AD3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3E2-B2D2-4C9E-9CE6-0F592E85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B61-1D9B-427B-8BBD-429D8168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E6C-A7B7-4743-967A-ACCE0294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F11-743E-4F20-A5B4-F557C600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5C0-3E42-438D-858D-E1BB558D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36D-3679-41F2-955F-42C73F40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5B6-B747-4515-8DD0-B25F43FC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3DA-BFB3-4344-91EB-A80AECE9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FEA-59A8-477B-B529-0140EA7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0EE-A927-424F-80DF-60547597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F34-A9F5-4361-B70B-89657E22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EAFF-A155-45AF-BC88-E73DE47152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1" descr="C:\Users\Selpo\Desktop\092x001.gif"/>
          <p:cNvPicPr/>
          <p:nvPr/>
        </p:nvPicPr>
        <p:blipFill>
          <a:blip r:embed="rId2"/>
          <a:stretch/>
        </p:blipFill>
        <p:spPr>
          <a:xfrm>
            <a:off x="6595920" y="23760"/>
            <a:ext cx="27860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chool system of Jap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ap"/>
          <p:cNvPicPr/>
          <p:nvPr/>
        </p:nvPicPr>
        <p:blipFill>
          <a:blip r:embed="rId1"/>
          <a:stretch/>
        </p:blipFill>
        <p:spPr>
          <a:xfrm>
            <a:off x="142920" y="209520"/>
            <a:ext cx="6143760" cy="6434280"/>
          </a:xfrm>
          <a:prstGeom prst="rect">
            <a:avLst/>
          </a:prstGeom>
          <a:ln w="0">
            <a:noFill/>
          </a:ln>
        </p:spPr>
      </p:pic>
      <p:sp>
        <p:nvSpPr>
          <p:cNvPr id="44" name="Nach oben gebogener Pfeil 3"/>
          <p:cNvSpPr/>
          <p:nvPr/>
        </p:nvSpPr>
        <p:spPr>
          <a:xfrm flipV="1" rot="4420800">
            <a:off x="6777000" y="1580400"/>
            <a:ext cx="1193760" cy="1171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6438600" y="3071880"/>
            <a:ext cx="226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apital City: Toky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27.264.438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bit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ead of Sta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enno Akihi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1" descr=""/>
          <p:cNvPicPr/>
          <p:nvPr/>
        </p:nvPicPr>
        <p:blipFill>
          <a:blip r:embed="rId1"/>
          <a:stretch/>
        </p:blipFill>
        <p:spPr>
          <a:xfrm>
            <a:off x="138240" y="212760"/>
            <a:ext cx="5246640" cy="6234120"/>
          </a:xfrm>
          <a:prstGeom prst="rect">
            <a:avLst/>
          </a:prstGeom>
          <a:ln w="0">
            <a:noFill/>
          </a:ln>
        </p:spPr>
      </p:pic>
      <p:sp>
        <p:nvSpPr>
          <p:cNvPr id="47" name="Textfeld 3"/>
          <p:cNvSpPr/>
          <p:nvPr/>
        </p:nvSpPr>
        <p:spPr>
          <a:xfrm>
            <a:off x="5866200" y="171468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feld 4"/>
          <p:cNvSpPr/>
          <p:nvPr/>
        </p:nvSpPr>
        <p:spPr>
          <a:xfrm>
            <a:off x="5863680" y="47736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 years of compulsory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571760" y="1000080"/>
            <a:ext cx="2571480" cy="4226040"/>
          </a:xfrm>
          <a:prstGeom prst="rect">
            <a:avLst/>
          </a:prstGeom>
          <a:ln w="0">
            <a:noFill/>
          </a:ln>
        </p:spPr>
      </p:pic>
      <p:sp>
        <p:nvSpPr>
          <p:cNvPr id="50" name="Textfeld 7"/>
          <p:cNvSpPr/>
          <p:nvPr/>
        </p:nvSpPr>
        <p:spPr>
          <a:xfrm>
            <a:off x="4359960" y="7858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irag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Geschweifte Klammer rechts 8"/>
          <p:cNvSpPr/>
          <p:nvPr/>
        </p:nvSpPr>
        <p:spPr>
          <a:xfrm>
            <a:off x="5429160" y="3357720"/>
            <a:ext cx="357120" cy="31431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3143160"/>
              <a:gd name="textAreaBottom" fmla="*/ 3134160 h 31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"/>
                  <a:pt x="10800" y="205"/>
                </a:cubicBezTo>
                <a:lnTo>
                  <a:pt x="10800" y="10595"/>
                </a:lnTo>
                <a:cubicBezTo>
                  <a:pt x="10800" y="10698"/>
                  <a:pt x="16200" y="10800"/>
                  <a:pt x="21600" y="10800"/>
                </a:cubicBezTo>
                <a:cubicBezTo>
                  <a:pt x="16200" y="10800"/>
                  <a:pt x="10800" y="10903"/>
                  <a:pt x="10800" y="11005"/>
                </a:cubicBezTo>
                <a:lnTo>
                  <a:pt x="10800" y="21395"/>
                </a:lnTo>
                <a:cubicBezTo>
                  <a:pt x="10800" y="214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-SCHUE30"/>
          <p:cNvPicPr/>
          <p:nvPr/>
        </p:nvPicPr>
        <p:blipFill>
          <a:blip r:embed="rId1"/>
          <a:stretch/>
        </p:blipFill>
        <p:spPr>
          <a:xfrm>
            <a:off x="428760" y="285840"/>
            <a:ext cx="550368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-SCHUE29"/>
          <p:cNvPicPr/>
          <p:nvPr/>
        </p:nvPicPr>
        <p:blipFill>
          <a:blip r:embed="rId2"/>
          <a:stretch/>
        </p:blipFill>
        <p:spPr>
          <a:xfrm>
            <a:off x="6143760" y="2357280"/>
            <a:ext cx="2792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-TEEN04"/>
          <p:cNvPicPr/>
          <p:nvPr/>
        </p:nvPicPr>
        <p:blipFill>
          <a:blip r:embed="rId1"/>
          <a:stretch/>
        </p:blipFill>
        <p:spPr>
          <a:xfrm>
            <a:off x="642960" y="357120"/>
            <a:ext cx="3313080" cy="545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-TEEN06"/>
          <p:cNvPicPr/>
          <p:nvPr/>
        </p:nvPicPr>
        <p:blipFill>
          <a:blip r:embed="rId2"/>
          <a:stretch/>
        </p:blipFill>
        <p:spPr>
          <a:xfrm>
            <a:off x="5072040" y="1785960"/>
            <a:ext cx="29066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Konfuzius"/>
          <p:cNvPicPr/>
          <p:nvPr/>
        </p:nvPicPr>
        <p:blipFill>
          <a:blip r:embed="rId1"/>
          <a:stretch/>
        </p:blipFill>
        <p:spPr>
          <a:xfrm>
            <a:off x="1571760" y="642960"/>
            <a:ext cx="2136600" cy="37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Image66"/>
          <p:cNvPicPr/>
          <p:nvPr/>
        </p:nvPicPr>
        <p:blipFill>
          <a:blip r:embed="rId2"/>
          <a:stretch/>
        </p:blipFill>
        <p:spPr>
          <a:xfrm>
            <a:off x="5292720" y="2924280"/>
            <a:ext cx="2529000" cy="2528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539640" y="458136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95280" y="404640"/>
            <a:ext cx="3816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5 virtu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tual l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scientious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nes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t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420280" y="3573360"/>
            <a:ext cx="13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3 duties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1. Loy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. Resp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 Poli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3059280" y="1844640"/>
            <a:ext cx="36036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227560" y="155736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Confucian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11"/>
          <p:cNvSpPr/>
          <p:nvPr/>
        </p:nvSpPr>
        <p:spPr>
          <a:xfrm>
            <a:off x="457200" y="5429160"/>
            <a:ext cx="50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arning without thinking is senseless, but thin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ithout learning is dangerous.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L 0.08664 -0.06319 E">
                                      <p:cBhvr>
                                        <p:cTn id="11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13386 -0.06297 E">
                                      <p:cBhvr>
                                        <p:cTn id="12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2743200" cy="410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258920" y="1268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nj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45412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5364000" y="1052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iragana (syllaba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2419560" cy="4105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1187280" y="907920"/>
            <a:ext cx="331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tak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ssimplified syllaba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64600" y="26028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tterings of Jap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091200" y="162864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oma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2"/>
          <p:cNvGraphicFramePr/>
          <p:nvPr/>
        </p:nvGraphicFramePr>
        <p:xfrm>
          <a:off x="5003640" y="2492280"/>
          <a:ext cx="3571920" cy="340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2492280"/>
                    <a:ext cx="35719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800"/>
                            </p:stCondLst>
                            <p:childTnLst>
                              <p:par>
                                <p:cTn id="1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35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69 0.00023 L 0.66632 -0.17245 E">
                                      <p:cBhvr>
                                        <p:cTn id="176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0486 -0.18889 E">
                                      <p:cBhvr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1600200"/>
            <a:ext cx="7715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ur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oll of O-Ton Radio Korea Inter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ww.Japan-link.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ww.Japan-Photo.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ww.wikipedia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ttp://www.sprachschule-info.de/schulsystem-japan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ttp://thema.jnbw.de/weltweit/107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ttp://blog.marume.de/2009/09/24/das-japanische-schulsystem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2:29:21Z</dcterms:created>
  <dc:creator>Selpo</dc:creator>
  <dc:description/>
  <dc:language>en-US</dc:language>
  <cp:lastModifiedBy>Selpo</cp:lastModifiedBy>
  <dcterms:modified xsi:type="dcterms:W3CDTF">2010-02-28T20:49:27Z</dcterms:modified>
  <cp:revision>24</cp:revision>
  <dc:subject/>
  <dc:title>School system of Japan</dc:title>
</cp:coreProperties>
</file>